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D72-F227-4833-9E22-A30C67D2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9A6-AD6A-4193-8F21-556EDC30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646-99B0-42AC-AF95-B412CF25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B7B-9792-43BB-9C20-50189F43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3A4-8874-422C-AA44-37E5472F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547-5F16-4E5C-B8AB-7FE7AE18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A47-EDB8-4266-962C-7D8CD44E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D41-74A2-46AF-953D-FD83B8D9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3A9-9D28-4938-A915-E882EE96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ECA-0D8A-4D3C-8A31-9D0E64F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B01-D9F7-4043-BF7F-31F6EB8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3D7-A999-4F47-BB44-9C72F2DA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443-D507-4307-93C1-BCEEF25C5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bird 14/30…this will change when more work is 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ty good.  More work should have been done on your websites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here.  I only saw a few ideas.  Mainly just pictures.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n’t seen this yet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…things did LOOK good.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entation done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2:53:01Z</dcterms:created>
  <dc:creator>nbdoe</dc:creator>
  <dc:description/>
  <dc:language>en-US</dc:language>
  <cp:lastModifiedBy>nbdoe</cp:lastModifiedBy>
  <dcterms:modified xsi:type="dcterms:W3CDTF">2007-05-11T12:53:04Z</dcterms:modified>
  <cp:revision>1</cp:revision>
  <dc:subject/>
  <dc:title>Election 2007</dc:title>
</cp:coreProperties>
</file>